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C903-EAC9-433E-8598-6F1F22CD0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1416-7007-4F4C-8558-41B80A6EA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CB0B-0578-4D17-9E33-37F5BBE15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ABB7-6070-4FE7-9CA3-255FE1652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AAFFA-FAD7-495C-B666-FE98E4A6E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BEC21-7009-4E11-8EC2-7B6629020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25F39-4926-467B-91F7-8E68FF953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3AB65-CF79-4CDA-9FFF-0786FF013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5C215-3B17-4835-B2C3-C8D6B1FE4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CD8B3-4FAD-4AD9-91DD-CDE6151F3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179C8-0C11-47FA-926F-05568CA21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C0A8-8626-490F-AEB6-403123AAB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1D864-0138-46AC-B8D2-0F05762E9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9F9E9-CDB3-425C-AFBB-C69A43A51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B41E8-04F4-4963-A453-D4DC4EC0A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9FD5D-2CCD-4C24-9023-E2FB1CE7F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0DEB9-E6F5-43E7-BE6B-27728FBC1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4E78-4189-42B0-BB55-6ED7A42B3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36ED-CD35-469E-9B1E-FE4F3DCCD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EB15-2F16-4129-9734-A32EA5115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7F84-3D1E-48DF-BA41-2746F5B83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E344-A56D-4271-894B-D1812212C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36E3-B178-4E56-9798-8DE1BD44D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E7B8-B030-4362-BB7D-09A23B1C1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1B85E-A997-417B-B5A9-0965BBE46D88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F3A8A-3246-4C41-8D88-A69BFB920B58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English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Oct. 14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DO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h. 14 question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Read ch. 15 together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h. 16 for homework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atch part of movi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Its true that anybody whose had Ms Anderson give her or him a literture assinement could of been confused about the amount of pages to read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291960" indent="-29196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291960" indent="-29196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291960" indent="-29196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trength:Frail::grace:_______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291960" indent="-29196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peak:Mispronounce::write:_______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291960" indent="-291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FOIL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 </a:t>
            </a:r>
            <a:r>
              <a:rPr b="1" lang="en-US" sz="3200" spc="-1" strike="noStrike">
                <a:solidFill>
                  <a:srgbClr val="eaeaea"/>
                </a:solidFill>
                <a:latin typeface="Verdana"/>
              </a:rPr>
              <a:t>foil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is a person that contrasts with another character (usually the protagonist) in order to highlight various features of the main character's personality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ho is the foil to Victor’s father, and in some ways to Victor himself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Journal response-1par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In what way is Safie a feminist character? (Meaning she doesn’t fit into the mold of women at that time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h. 15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hat are your feelings about the creature at the end of this chapter? Does he deserve sympathy and compassion? Why or why not. 1 par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4T16:53:46Z</dcterms:created>
  <dc:creator>vhs</dc:creator>
  <dc:description/>
  <dc:language>en-US</dc:language>
  <cp:lastModifiedBy>vhs</cp:lastModifiedBy>
  <dcterms:modified xsi:type="dcterms:W3CDTF">2009-10-14T17:10:28Z</dcterms:modified>
  <cp:revision>2</cp:revision>
  <dc:subject/>
  <dc:title>English</dc:title>
</cp:coreProperties>
</file>